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B1FB-C1B4-461A-AA12-72D5F3A12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82F4-9787-4DA7-9C45-171B62D57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2738-5325-47B8-9230-C5FBB9DE8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CFC4-9EE3-4A34-8B43-4DA4A5B88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B671F-CF80-4894-9DB3-D61E0995F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B1216-DFAA-41B3-B1E6-D431CF554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F753C-37E5-4FC8-8C2B-036229CF0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EA53C-7BDB-4D82-8C1C-9AEA54B1A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5AAD5-FD56-48EC-9261-D912D1722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E8F2F-DDC7-4DE4-B7AE-3DE587294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8C391-3421-4BF1-8287-15CE33F76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6813-7872-458E-B752-43AAD9AB4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B0E8D-42A6-4DC0-AB49-D15C57D26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9D79A-DFD3-4594-9706-F03B18C7E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B93A9-B273-4576-95CB-D81EFFDD4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398CA-2BFE-4E59-B4F3-A7179DEAE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6FFBF-DD56-43DC-AD84-3A52E933F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79D45C-580F-4236-957F-D7721E839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102EDC-AC2A-46A3-BF04-BE52F7A81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193AAC-798B-4682-ACF1-0384A2340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6EA078-0D15-4F37-9990-D674D98BD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1D89F1-6153-4C8B-B423-1D7221BF2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2A35-7467-4ABF-B489-96B41DCE6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2F6AB1-51C8-45F3-A575-1A0EF40C8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A23556-04DF-4ED5-B2D3-25EB5C9F0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3A16F4-B3A2-4851-83FB-946B452BC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C3FF04-06FA-45E7-9D84-3397FBD3C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C4A303-E0F8-4A06-917A-D46D293FD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CD0643-EB22-43A2-91B8-244098158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64114C-23A0-424D-890E-9EF3FC840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6D746A-B402-4314-8289-C4ED9984B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087647-29BF-427A-9138-D2FE24328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E3213B-20D4-49D8-9CA2-6D0A9C660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B978-0B98-4794-A4C3-BD4DCD0B5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E73518-1967-41B9-AB3C-49011841D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A7FB0A-9C0A-44BB-83F8-1521AD081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267A08-F4D1-40ED-A581-165717312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B96B5F-2F5D-498B-990B-C8350DF55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FA3CBC-7F59-4582-BA5E-D57E065A6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B55180-75C7-4157-A267-E5454803E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A5EF2C-60DB-4CBF-96A8-47B1080F0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E903AD-1E8D-4D78-81C8-8344CA8DD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DBBB68-DCBF-490D-AF46-644B37ECA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631B09-7A95-46BB-A85F-666998FEE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54EE-2DC7-482B-81D9-F50EBEEDB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8DB568-75EE-4CF2-8C78-C57179161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7FBFD9-CF41-4202-9413-866DC16F0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A077F9-B874-4B2D-A498-6F487333C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B74599-DA85-40BE-8EBE-08BFD7590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A4FB29-0676-43FE-A19C-19FB6402A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CA07CD-B29F-4DCD-BF04-E50AD40D4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E976A2-B7BA-4739-8335-B93AD489B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8A02E2-3EF3-46E3-8F59-67D6D878D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FFFC4B-9F07-4A89-B7FC-85B65A9E5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F65625-93E5-460D-B28E-2589602A1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7EB5-DE3A-4BD7-8B69-A1A8E135B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E32815-CA83-416D-B88E-A59E7F29F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249320-8533-4CEF-9BCB-83BD9CDC1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A28C87-6E90-40CA-B2F5-6FDF51846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0A72CB-55AC-4F1E-B133-A082CC83F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9C4096-0374-44D2-84F0-5FA34A70A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838E76-3908-4CC0-84D7-D5DEA57A8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B0A67C-A4E6-476B-9768-C98B9D69A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E28580-6484-4142-B9B6-876033F35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820729-7A8D-4D3A-833C-2A1F427F9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18A137-1A2C-41B3-ACA4-08C0C9A54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1159-A281-4D53-B41B-B7A550209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521690-D749-4D6D-971A-65E15D8F4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238B77-BF49-4B66-BD1B-17A8A10E0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FE7505-84DA-4BD5-BD7B-8B3918BFA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CB66E3-6616-42DF-83B9-01C408B1F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4E2D01-C839-4FE4-B172-764EADC1F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DBC635-6926-420B-9130-1020B450B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61806C-29B1-4BB8-A9BE-FCEF7FD9A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59A371-63EF-4897-8E6A-2F4421B9E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E74544-B64F-49CA-BA08-60882ADD4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020BEC-9053-4B96-B842-28491F3B6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E832-44CB-45BB-AC75-821F56C11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C6EBC8-A4F1-459F-B843-D290FF502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A564E1-5D65-47CF-A3B6-2560C66F9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887B09-6554-4896-B81D-BFB531992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058EF6-7294-405A-BA25-A5DE3152E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7DCAF5-76EB-44B6-9D87-993796851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4C16B0-F7AB-4AD6-98E1-7127B499D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B2D3E7-4B36-459A-9087-67BDA396D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9F02DA-9855-428C-B890-0220BE648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31DB03-D4FB-46A4-8E6A-C185F1BC1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04B0BA-555D-49D5-891A-7438810FE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BAB9-8D3C-47D7-9865-45C5405BB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621E1A-F9CD-4351-9E4A-8A408D2A0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96D305-AA25-4FDA-839C-930B4DA33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BF5C5F-EDEB-46EF-8462-D391C288E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3CEA86-8648-4314-BAB1-887CA77A4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FA7A8B-B9BB-4231-B644-D51F26C4D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6E7E09-16F5-488C-8D30-66AB15AA3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6D48F3-A8A6-4DC1-B986-C682454CE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FE778-B4F1-46FC-89BA-D0D6C855265D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F4000-4DB8-4A0F-B526-E25063116B84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B2A05-C677-4132-908A-FA63A17A3BEB}" type="slidenum">
              <a:rPr b="0" lang="en-US" sz="1400" spc="-1" strike="noStrike">
                <a:solidFill>
                  <a:srgbClr val="dde9ec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Isosceles Triangle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92CE4-8EA6-4E2C-9765-0366FAC73340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FE298-9130-4F6A-840C-D3E9A1E5D106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traight Connector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Isosceles Triangle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E712E-6E95-406D-950B-EEAAB41127DB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17467-64BF-4963-9679-4CA0062F27F1}" type="slidenum">
              <a:rPr b="0" lang="en-US" sz="1400" spc="-1" strike="noStrike">
                <a:solidFill>
                  <a:srgbClr val="dde9ec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Straight Connector 12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7617F-A7CC-426E-9B5E-01D6B44D9A64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Bookman Old Style"/>
              </a:rPr>
              <a:t>2013 AP English </a:t>
            </a:r>
            <a:br>
              <a:rPr sz="2900"/>
            </a:br>
            <a:r>
              <a:rPr b="0" lang="en-US" sz="2900" spc="-1" strike="noStrike">
                <a:solidFill>
                  <a:srgbClr val="000000"/>
                </a:solidFill>
                <a:latin typeface="Bookman Old Style"/>
              </a:rPr>
              <a:t>Literature and Composition Results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Bookman Old Style"/>
              </a:rPr>
              <a:t>O’Gorman High Schoo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Result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57200" y="2057400"/>
          <a:ext cx="8229600" cy="1482840"/>
        </p:xfrm>
        <a:graphic>
          <a:graphicData uri="http://schemas.openxmlformats.org/drawingml/2006/table">
            <a:tbl>
              <a:tblPr/>
              <a:tblGrid>
                <a:gridCol w="2895480"/>
                <a:gridCol w="990720"/>
                <a:gridCol w="1143000"/>
                <a:gridCol w="1066680"/>
                <a:gridCol w="1067040"/>
                <a:gridCol w="106668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Overall Score Distribu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umber of O’Gorman Stude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% Students at O’Gorm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2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8.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8.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% Students Global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1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1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8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7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</a:tbl>
          </a:graphicData>
        </a:graphic>
      </p:graphicFrame>
      <p:sp>
        <p:nvSpPr>
          <p:cNvPr id="356" name="TextBox 4"/>
          <p:cNvSpPr/>
          <p:nvPr/>
        </p:nvSpPr>
        <p:spPr>
          <a:xfrm>
            <a:off x="228600" y="419112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68.75% of O’Gorman students scored a 4 or 5 while only 26.4% scored a 4 or 5 global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87.5% of O’Gorman students passed the test while 57.9% passed the test global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Free Response Summary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358" name=""/>
          <p:cNvGraphicFramePr/>
          <p:nvPr/>
        </p:nvGraphicFramePr>
        <p:xfrm>
          <a:off x="457200" y="1752480"/>
          <a:ext cx="8229600" cy="2027520"/>
        </p:xfrm>
        <a:graphic>
          <a:graphicData uri="http://schemas.openxmlformats.org/drawingml/2006/table">
            <a:tbl>
              <a:tblPr/>
              <a:tblGrid>
                <a:gridCol w="4648320"/>
                <a:gridCol w="1143000"/>
                <a:gridCol w="1218960"/>
                <a:gridCol w="121932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Question/Probl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Max Possible Sco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lobal Me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 Me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oe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ro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p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</a:tbl>
          </a:graphicData>
        </a:graphic>
      </p:graphicFrame>
      <p:sp>
        <p:nvSpPr>
          <p:cNvPr id="359" name="TextBox 4"/>
          <p:cNvSpPr/>
          <p:nvPr/>
        </p:nvSpPr>
        <p:spPr>
          <a:xfrm>
            <a:off x="457200" y="396252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O’Gorman students had higher means in each response categ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Multiple Choice Summary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361" name=""/>
          <p:cNvGraphicFramePr/>
          <p:nvPr/>
        </p:nvGraphicFramePr>
        <p:xfrm>
          <a:off x="457200" y="1981080"/>
          <a:ext cx="8229600" cy="2001960"/>
        </p:xfrm>
        <a:graphic>
          <a:graphicData uri="http://schemas.openxmlformats.org/drawingml/2006/table">
            <a:tbl>
              <a:tblPr/>
              <a:tblGrid>
                <a:gridCol w="4800600"/>
                <a:gridCol w="1143000"/>
                <a:gridCol w="1143000"/>
                <a:gridCol w="114300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Content Are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umber of Ques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lobal Me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 Me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ro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oe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Gill Sans MT"/>
                        </a:rPr>
                        <a:t>t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-21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Gill Sans MT"/>
                        </a:rPr>
                        <a:t>s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Century Literat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3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re-2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Gill Sans MT"/>
                        </a:rPr>
                        <a:t>t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Century Literat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</a:tbl>
          </a:graphicData>
        </a:graphic>
      </p:graphicFrame>
      <p:sp>
        <p:nvSpPr>
          <p:cNvPr id="362" name="TextBox 7"/>
          <p:cNvSpPr/>
          <p:nvPr/>
        </p:nvSpPr>
        <p:spPr>
          <a:xfrm>
            <a:off x="457200" y="449568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O’Gorman students had higher means in each response categ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Historical Comparison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364" name=""/>
          <p:cNvGraphicFramePr/>
          <p:nvPr/>
        </p:nvGraphicFramePr>
        <p:xfrm>
          <a:off x="457200" y="1447920"/>
          <a:ext cx="8229600" cy="434808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Ye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struc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Total in S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Mean Score (Out of 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% Score 3 or High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ahon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.1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8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arquard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arquard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.4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arquard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.8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arquard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.1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77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arquard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.4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81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arquard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.2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75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Van En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.7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Van En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.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Van En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.7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87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3T21:29:07Z</dcterms:created>
  <dc:creator>Administrator</dc:creator>
  <dc:description/>
  <dc:language>en-US</dc:language>
  <cp:lastModifiedBy>Administrator</cp:lastModifiedBy>
  <dcterms:modified xsi:type="dcterms:W3CDTF">2013-07-15T14:30:14Z</dcterms:modified>
  <cp:revision>15</cp:revision>
  <dc:subject/>
  <dc:title>2011 AP English  Literature and Composition Results</dc:title>
</cp:coreProperties>
</file>